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605-ECDA-4E9A-8B8E-4D9A1D42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768-D73A-4C49-9FC8-0F35854B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76E-D31F-49B5-8BEE-0555858C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EBD-4D81-4E85-996C-ADD053BD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E6A-049C-4098-A292-07D32B3C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E85-0CE8-440E-8FE7-1766E9A1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02F-5F30-4FA3-B1DD-841BF3BD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083-4DD4-444E-8888-89E6906C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58B-27D1-47F0-8F81-A2D88F02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C20-B36A-43CC-8070-E4AEC4C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283-F2BF-45F9-B726-E8414635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CA2-7421-42C8-973D-099A5D50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74f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706D-FB85-464C-836C-DF25639CD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0;&#1088;&#1086;&#1089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529524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DSC05381"/>
          <p:cNvPicPr/>
          <p:nvPr/>
        </p:nvPicPr>
        <p:blipFill>
          <a:blip r:embed="rId1"/>
          <a:stretch/>
        </p:blipFill>
        <p:spPr>
          <a:xfrm rot="399000">
            <a:off x="4557600" y="3186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SC05384"/>
          <p:cNvPicPr/>
          <p:nvPr/>
        </p:nvPicPr>
        <p:blipFill>
          <a:blip r:embed="rId2"/>
          <a:stretch/>
        </p:blipFill>
        <p:spPr>
          <a:xfrm>
            <a:off x="1447920" y="3352680"/>
            <a:ext cx="251604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SC05411"/>
          <p:cNvPicPr/>
          <p:nvPr/>
        </p:nvPicPr>
        <p:blipFill>
          <a:blip r:embed="rId3"/>
          <a:stretch/>
        </p:blipFill>
        <p:spPr>
          <a:xfrm rot="20846400">
            <a:off x="317520" y="547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DSC05363"/>
          <p:cNvPicPr/>
          <p:nvPr/>
        </p:nvPicPr>
        <p:blipFill>
          <a:blip r:embed="rId4"/>
          <a:stretch/>
        </p:blipFill>
        <p:spPr>
          <a:xfrm rot="325800">
            <a:off x="4257360" y="351432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419000" y="3786120"/>
            <a:ext cx="7596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га- это мальчик, подросток, обучающийся морскому делу и исполняющий обязанности 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тро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екоторых флотах — младший матро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ЙУ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, 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НГ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Л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БКА</a:t>
            </a:r>
            <a:br>
              <a:rPr sz="7200"/>
            </a:b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ЛЮВ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Р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Ю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1"/>
          <p:cNvSpPr/>
          <p:nvPr/>
        </p:nvSpPr>
        <p:spPr>
          <a:xfrm>
            <a:off x="2438280" y="1828800"/>
            <a:ext cx="914400" cy="838080"/>
          </a:xfrm>
          <a:prstGeom prst="flowChartProcess">
            <a:avLst/>
          </a:prstGeom>
          <a:gradFill rotWithShape="0">
            <a:gsLst>
              <a:gs pos="0">
                <a:srgbClr val="99cc00"/>
              </a:gs>
              <a:gs pos="100000">
                <a:srgbClr val="b821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943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ЮР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19112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105520" y="1828800"/>
            <a:ext cx="914400" cy="838080"/>
          </a:xfrm>
          <a:prstGeom prst="flowChartProcess">
            <a:avLst/>
          </a:prstGeom>
          <a:solidFill>
            <a:srgbClr val="b821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8954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8954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8954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895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895480" y="1905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35268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2 из 145624"/>
          <p:cNvPicPr/>
          <p:nvPr/>
        </p:nvPicPr>
        <p:blipFill>
          <a:blip r:embed="rId1"/>
          <a:stretch/>
        </p:blipFill>
        <p:spPr>
          <a:xfrm>
            <a:off x="533520" y="2590920"/>
            <a:ext cx="279720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8 из 99289"/>
          <p:cNvPicPr/>
          <p:nvPr/>
        </p:nvPicPr>
        <p:blipFill>
          <a:blip r:embed="rId2"/>
          <a:stretch/>
        </p:blipFill>
        <p:spPr>
          <a:xfrm>
            <a:off x="5715000" y="304920"/>
            <a:ext cx="31240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4:50Z</dcterms:created>
  <dc:creator>1</dc:creator>
  <dc:description/>
  <dc:language>en-US</dc:language>
  <cp:lastModifiedBy>gor</cp:lastModifiedBy>
  <dcterms:modified xsi:type="dcterms:W3CDTF">2012-03-10T05:25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